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A130A-2E5B-4982-AAF5-149DFB6949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89F6F-83D7-4CA8-8D84-70678FEEF5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6FCF8-9229-44A8-A777-A7919FAE76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02060C-5FBA-4BE7-BED0-FFCC15850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7252DA-B376-419D-83ED-AA2636862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11D8AB-2A38-4013-AA06-BC4CF78F5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D8AD19-A9DD-4BF8-BF49-D99F80033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94E87-29B1-40FF-B118-87348C0A6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FB49C-D395-480F-B1F4-5CEC002C6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2BCBA-FF44-48B1-8496-7B924BA28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D50A7-533F-46BC-94DA-D3FE94549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6A3A0-92F5-483C-98D2-23A93D749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86D50-073D-45A3-A5DE-CFED707DD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8C19F-193E-498F-869D-5D662CDC7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223F48-1805-4406-A559-400A843DC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FEC9F-D248-4FE6-8974-7A2D8BCF4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09DDA-1F6B-4847-9ECE-496478BB3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0A8F7-62FC-44B6-9465-F4D113C0D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DB8AB-9D11-476E-8E03-DEB418567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D1857-F26F-4885-AF04-EBAAA05AC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A7B3B8-A5DB-4A22-9711-BCD53F110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45A6AF-9C6C-43C7-87EE-3DAD531D8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D3F03C-6AEA-47AF-8C3D-BB69F44B2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E4A48D-F064-4AC7-8F04-168D2D419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F03900-9968-4BC5-9110-88984B1F6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F81334-B081-4719-B78E-9C4E6FE1E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1A6441-3CCD-490F-BE14-A584FE364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C9686-6B84-4270-82DD-0CF62700690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FA269-1957-49FF-A256-DF28416FF8E9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457200" y="624852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sonnel – Module 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3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6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59EE7-59AF-476E-89D6-CF6AAC791317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5622D-CD68-471D-8EE3-22AF85CA99E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624852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sonnel – Module 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Sample Orientation Check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Document"/>
          <p:cNvSpPr/>
          <p:nvPr/>
        </p:nvSpPr>
        <p:spPr>
          <a:xfrm>
            <a:off x="1143000" y="1219320"/>
            <a:ext cx="6781680" cy="5333760"/>
          </a:xfrm>
          <a:prstGeom prst="pie">
            <a:avLst/>
          </a:prstGeom>
          <a:solidFill>
            <a:srgbClr val="ffffd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y t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roductions to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y technical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sonnel key poli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y Quality Management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b 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371600" y="1447920"/>
            <a:ext cx="6629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295280" y="1371600"/>
            <a:ext cx="647712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AME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T DA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SITION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A97055-9657-48DB-860E-F403CE7D264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838080" y="1219320"/>
            <a:ext cx="7925040" cy="3934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Verdana"/>
              </a:rPr>
              <a:t>Performance appraisal</a:t>
            </a:r>
            <a:br>
              <a:rPr sz="3600"/>
            </a:br>
            <a:r>
              <a:rPr b="1" i="1" lang="en-US" sz="3600" spc="-1" strike="noStrike">
                <a:solidFill>
                  <a:srgbClr val="000099"/>
                </a:solidFill>
                <a:latin typeface="Verdana"/>
              </a:rPr>
              <a:t> may highlight more opportunities for improvement </a:t>
            </a:r>
            <a:br>
              <a:rPr sz="3600"/>
            </a:br>
            <a:r>
              <a:rPr b="1" i="1" lang="en-US" sz="3600" spc="-1" strike="noStrike">
                <a:solidFill>
                  <a:srgbClr val="000099"/>
                </a:solidFill>
                <a:latin typeface="Verdana"/>
              </a:rPr>
              <a:t>for the laboratory than for the employe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1239840" cy="1981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E7929-E4D7-4CBD-B132-B74ADC7FE8B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Job Qualifications and Descri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520" y="1219320"/>
            <a:ext cx="830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boratory Management shall have job description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at define qualifications and duties for all personnel.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O 15189: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90720" y="2819520"/>
            <a:ext cx="3809880" cy="335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edu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certific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degr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prior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prior experi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a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029200" y="2819520"/>
            <a:ext cx="3657600" cy="335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pecify lines of autho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pecify responsibilit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ll ro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ll du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ll responsi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porting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90720" y="2438280"/>
            <a:ext cx="3809880" cy="381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Qualif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29200" y="2438280"/>
            <a:ext cx="3657600" cy="381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Job</a:t>
            </a: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Descri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D4644E-1763-4A6D-9748-85FDCBCECA0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Competency Assessment Checklist 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(to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57200" y="1981080"/>
          <a:ext cx="8229600" cy="4017960"/>
        </p:xfrm>
        <a:graphic>
          <a:graphicData uri="http://schemas.openxmlformats.org/drawingml/2006/table">
            <a:tbl>
              <a:tblPr/>
              <a:tblGrid>
                <a:gridCol w="2743200"/>
                <a:gridCol w="914400"/>
                <a:gridCol w="457200"/>
                <a:gridCol w="457200"/>
                <a:gridCol w="533520"/>
                <a:gridCol w="3124080"/>
              </a:tblGrid>
              <a:tr h="3528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chnologist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chnologist Tit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dure for Evalu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tion D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dure it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d procedure manu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n manual read lo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quipment availabl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 area ne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gent prepa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orm task accurate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orm task time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2B77ED-5732-4E1B-B226-4E80C373608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Competency Assessment Checklist</a:t>
            </a: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botto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57200" y="1752480"/>
          <a:ext cx="8229600" cy="4435560"/>
        </p:xfrm>
        <a:graphic>
          <a:graphicData uri="http://schemas.openxmlformats.org/drawingml/2006/table">
            <a:tbl>
              <a:tblPr/>
              <a:tblGrid>
                <a:gridCol w="2743200"/>
                <a:gridCol w="914400"/>
                <a:gridCol w="914400"/>
                <a:gridCol w="533520"/>
                <a:gridCol w="3124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70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ment summa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798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training required to address deficiencies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196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ommended activities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assessment to occur in _____ day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04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s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71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ned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74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ed Technologi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EFF86B-5750-42B5-B63F-8B7ABA6EB7E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Verdana"/>
              </a:rPr>
              <a:t>Competency Assess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1523880"/>
            <a:ext cx="8610480" cy="4648320"/>
          </a:xfrm>
          <a:prstGeom prst="flowChartDocument">
            <a:avLst/>
          </a:prstGeom>
          <a:solidFill>
            <a:srgbClr val="ffffd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228600" y="1600200"/>
          <a:ext cx="8610480" cy="3916440"/>
        </p:xfrm>
        <a:graphic>
          <a:graphicData uri="http://schemas.openxmlformats.org/drawingml/2006/table">
            <a:tbl>
              <a:tblPr/>
              <a:tblGrid>
                <a:gridCol w="1143000"/>
                <a:gridCol w="914400"/>
                <a:gridCol w="1371600"/>
                <a:gridCol w="1371600"/>
                <a:gridCol w="1143000"/>
                <a:gridCol w="2666880"/>
              </a:tblGrid>
              <a:tr h="82800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etency  Assessment Lo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n Hospital – Microbiology Laborato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ploy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s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rais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/02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m St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, M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assess in 1 y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/02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rby-Bau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Al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ss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cement of disks too crowded;  Reassess 14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/03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rby-Bauer(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Al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assess in 1 y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/08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ad BC bott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, M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/10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tocentrifu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beya, Al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assess in 1 y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/04/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ll autocla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beya, Al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5/08/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ysis data ent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, M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ss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entry errors.  Read manual and reassess 10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8CC575-6F0A-4837-90C1-668F6E41645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80880" y="1523880"/>
            <a:ext cx="3962520" cy="43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ork rel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ask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nked to competenc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viewing operator manu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viewing manual up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nufacturers’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quipment training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" y="685800"/>
            <a:ext cx="4038480" cy="64224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Training</a:t>
            </a:r>
            <a:br>
              <a:rPr sz="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0" y="1752480"/>
            <a:ext cx="4267080" cy="43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ork rel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y no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be task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y no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be linked to competency 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fer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orksho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ournal club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ournals and literature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648320" y="609480"/>
            <a:ext cx="4267080" cy="520560"/>
          </a:xfrm>
          <a:prstGeom prst="rect">
            <a:avLst/>
          </a:prstGeom>
          <a:solidFill>
            <a:srgbClr val="00007d"/>
          </a:solidFill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Continuing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934320" y="3733920"/>
            <a:ext cx="1782720" cy="14842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2666880" y="2971800"/>
            <a:ext cx="1109880" cy="12952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2819520" y="3505320"/>
            <a:ext cx="647640" cy="49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Verdana"/>
              </a:rPr>
              <a:t>Manual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7A221A-6168-420D-B8A2-8027152691F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0DEC2-0E32-4C0B-90C8-0005E227D16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Verdana"/>
              </a:rPr>
              <a:t>Training Resour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1295280"/>
            <a:ext cx="35812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Perso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quality assurance committ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nic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urs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athologis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fection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pidemiolog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800600" y="1295280"/>
            <a:ext cx="411480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xter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sesso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nufactur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cience societ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orld Health Orga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enters for Disease Contro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nd Preven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ndards developmen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ganiz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FN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514600" y="4191120"/>
            <a:ext cx="2130480" cy="2361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5D3AAA-1190-4AEC-AFF0-7770BB10901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Verdana"/>
              </a:rPr>
              <a:t>Causes of Poor Perform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09480" y="1295280"/>
            <a:ext cx="37339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erson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ersonal heal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ersonal distra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isundersta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iscommun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69AA44-4B96-43BA-BEA0-9330D2A1355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Verdana"/>
              </a:rPr>
              <a:t>Causes of Poor Perform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" y="1143000"/>
            <a:ext cx="74674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ystem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orksite distr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cessive worklo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or ori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ufficient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bsent competency 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e complex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bsent or invalid S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mbiguous S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57377C-907C-4E2F-B6A8-5D171411F04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Robin Barteluk</cp:lastModifiedBy>
  <dcterms:modified xsi:type="dcterms:W3CDTF">2008-11-23T23:58:18Z</dcterms:modified>
  <cp:revision>197</cp:revision>
  <dc:subject/>
  <dc:title>Slide 1</dc:title>
</cp:coreProperties>
</file>